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121BCA-2390-4434-8F46-7DCBB0CBC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28746D-9AB9-4231-8C43-52382CF6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63869C-BE64-46F5-A5CC-862FBD22C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B761E0-1E24-49B6-BBD7-0E108CDD0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37846C-731B-4AB0-9D58-6EB9510DC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47272D-F311-40E7-B8FE-34A1C0DC2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48EA2D-39E6-4EEB-820B-623429012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58CE5F-491E-4D4C-BF07-FAB0C0A34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A5D51C-AB79-422E-9D7E-01760B929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0B6958-0BF4-436F-87BB-16607C1A2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0564CE-589A-4319-9286-9120F2C13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83757-DD7A-4488-900A-375E63469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6E785-2656-47AD-BFDF-1E0B712A1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B5F3B3-F844-4A52-91C4-7837D316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9EF12A-68C5-4B25-997A-6F1D5B24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A501B8-B9FD-41C1-98E7-A6D826342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993990-7351-4AF3-8030-F8685C61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ED154B-CB02-417A-B442-A7E27B2B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4F8770-E293-4A53-89DB-EEAA2E0B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DC1159-B8BB-4D0E-8018-D315256CA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1B68F9-9E12-47F2-9EF8-CD22204BF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02207A-559B-425D-BF0E-D63057696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C40134-CF34-450C-8995-1F52AC5A2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37A6BF-1B89-40AA-8A76-E2D132D39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2A3F4C-B4B8-4201-9AF5-85B7147A7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DD4844-4A7D-42EF-9A40-C92A52F8B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171538-FB12-41A6-AEC2-7E6BDE07A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F7F469-4EF9-4FDD-9A79-F201700B9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F8F77D-52D8-419B-8616-ABC404DC0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60055D-C6C7-4D4C-B0E2-11931DB8B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583056-E73D-4829-AC66-765A8A717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1DFA26-192D-4409-B8B0-C2FA11E3F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EAB24B-D1FF-4490-B918-6DFF3F418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AA90B3-BCD0-4AFE-992C-282586F98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E77C9-814D-4564-8B95-A5EAAFA9D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243E77-F3AA-44D0-B97A-CCE8A7D36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056FB4-1FB5-4FA3-9E21-0B196110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16B3D6-CA1C-4545-A690-F3FA7340F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5F4B-2EC7-4BA3-9728-A8B874DD14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7734-7131-4418-A0C5-BB3FE5E9C8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AB09-4BDD-4E5A-9A65-113E673584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F2D7-B127-48D1-AC08-F743E78B6F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2816-CF76-4D6F-8FD0-3232F83B68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D4A6-3D91-4F82-81F7-61324044F0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067D8-FDB6-4C66-AE0F-8F8DDCC886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EB77-A2E2-4A39-83FD-C57AECC3E7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E3D6-52AC-4BFE-9870-3783B3EA44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95E6-2CFF-416B-AC70-9CAFCD00F5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D5A3-BD5F-44A0-A6A8-BE263CC338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CC8C-45B6-42EA-A337-F8FD901E20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logotr2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7856-0AD0-4FC8-87B9-8594331F595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logotr2"/>
          <p:cNvPicPr/>
          <p:nvPr/>
        </p:nvPicPr>
        <p:blipFill>
          <a:blip r:embed="rId3"/>
          <a:stretch/>
        </p:blipFill>
        <p:spPr>
          <a:xfrm>
            <a:off x="8321760" y="6021360"/>
            <a:ext cx="82224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0520" y="3198960"/>
            <a:ext cx="9144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Ekonomide ve Bankacılık Sektörü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Gelişm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üseyin Ayd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Yönetim Kurulu Başkan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Mayı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310D-069C-468C-9A03-31293624625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33480"/>
            <a:ext cx="88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roje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08000" y="1338120"/>
            <a:ext cx="705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D522-3F0A-42BC-BD08-26D82D8E747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 kali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302400" y="45925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28440" y="1297080"/>
            <a:ext cx="46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4560840" y="1297080"/>
            <a:ext cx="4583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9093-EFD4-499A-91ED-C3AC8CE19E0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pılandırılan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200" y="1268280"/>
            <a:ext cx="454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, bölgesel veya jeopolitik nedenler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on akımı boz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ireysel ve kurum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sa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 müşteril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rekli kolaylıklar sağlanmakta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ca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ali durumu sürekli sorunlu ve iyileşemeyecek müşteriler için kurallar uygulanmakta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4597560" y="1700280"/>
            <a:ext cx="456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75F4-927B-428C-9CB1-F7493B17162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56320" y="46339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0"/>
            <a:ext cx="91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Mevduat daha sınırl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575240" cy="288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610160" y="1268280"/>
            <a:ext cx="4568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BD9B-8C54-41F4-92D8-9AAB06C3DF9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Mevduat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seyri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00680" y="5614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52920" y="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üyüme farkı azal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0" y="1365120"/>
            <a:ext cx="4560840" cy="2711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4560840" y="1309680"/>
            <a:ext cx="4583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471A-724E-4AF0-A67D-37C3B93BD94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51840" y="463536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zine Müsteşarlığı, BDDK,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10160" y="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TL kredi büyümesin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in üçte biri Hazine itfası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evduat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oranı düşü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43560" y="1266840"/>
            <a:ext cx="4600440" cy="2954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126684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4B44-B4EF-4773-9F5D-9CBD1C80780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610160" y="0"/>
            <a:ext cx="45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Yurtdışı finansman önem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Mevduat dışı kaynakların sey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4594320" y="1281240"/>
            <a:ext cx="4576680" cy="286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1281240"/>
            <a:ext cx="4594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B407-CB0D-4AD6-99B7-B0020B906E1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bancı para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1440" y="1341360"/>
            <a:ext cx="45594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560840" y="1177920"/>
            <a:ext cx="4583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D1B9-7153-44C7-88A8-9AAA9390FF5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 büyümesi yavaşlad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-20520" y="1268280"/>
            <a:ext cx="45925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4579920" y="124776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A9FC-E0D0-4D1F-A8F2-8CE983B30EE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 yeterli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11160" y="1260360"/>
            <a:ext cx="4572000" cy="293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560840" y="1260360"/>
            <a:ext cx="45831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90C5-CFE1-45C5-8031-EB04478D2A6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onuşmanın içer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270080"/>
            <a:ext cx="840744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Dünyada ve Türkiye’de ekonomik gelişm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nkacılık sektöründeki gelişme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 ve sektörün talep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1229-6E68-4430-9D08-44F73113721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Fiili sermaye yeterliliği yüzde 1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225440"/>
            <a:ext cx="6084720" cy="398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84360" y="1017720"/>
            <a:ext cx="3022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Mevcut eğil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evam eder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2018’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fiili sınıra ulaşıl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 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kredi büyü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vaşlay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5FCC-3EA9-4E1D-A6DA-BDA953AE37E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0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 sınırlandıran nede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240" y="1017720"/>
            <a:ext cx="456876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ade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piyasalardaki dalgalanmaları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neden olduğu riskler vey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yönetim kararları değil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0560" y="1017720"/>
            <a:ext cx="45687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üzenleme değişiklikl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Sürdürülebilir karlılığı sınırlandıran yük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Maliyet arttıran ek yü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elir azaltan düzenlem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ri alanlarda cezalandırıcı yak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Tahsili gecikmiş alacaklarda artı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CFC0-8D67-4A87-8934-814ECAFE6F7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 düşerk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48240" y="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dı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m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rj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katkısı da aza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289160"/>
            <a:ext cx="456084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2"/>
          <a:stretch/>
        </p:blipFill>
        <p:spPr>
          <a:xfrm>
            <a:off x="4572000" y="131616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F8D5-7B2D-40AF-892D-A735F151B6D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nın düşmesi beklenen bir d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8480" y="0"/>
            <a:ext cx="453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Risk için ayrılan karş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0" y="1482840"/>
            <a:ext cx="453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Faiz oranları yükselir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sağlıklı ve faize duyarlı müşterilerin kredi talebi azalı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büyüme hızı yava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kredi kalitesi düşe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riskler için karşılıklar arta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572000" y="11872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D34D-AC29-4AE4-BFD5-234774E412C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Net özkaynak karlılığı düşü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578480" y="0"/>
            <a:ext cx="4538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Sermayenin getirisi maliyet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-33480" y="1303200"/>
            <a:ext cx="4577040" cy="2846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4578480" y="1303200"/>
            <a:ext cx="4565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480D-35B3-4F16-9663-2E11ECBAE2F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36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ye sahip çıkma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ekonominin geleceğine sahip çıkmakt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9360" y="1494000"/>
            <a:ext cx="913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Net karın tamamı özkaynağa ekleniyor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krediye ve büyümeye dönüşü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0920" y="3451320"/>
            <a:ext cx="8642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6351-4F48-4080-B891-A2DB6CF4A8C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5687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Kredi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büyümesinin 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ürdürül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Uluslararası rekabet gücünün art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Şoklara dayanma gücünün korun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ıkılaşan uluslararası kurallara uy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641840" y="1268280"/>
            <a:ext cx="45687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</a:rPr>
              <a:t>Özkaynakların güçlendirilmesi gerek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5C14-8F10-4ABC-B75D-19BBE0885E4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iyasa değ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248040" y="4592520"/>
            <a:ext cx="222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-11160" y="1276200"/>
            <a:ext cx="4583160" cy="287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559400" y="1262160"/>
            <a:ext cx="45846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4CF8-BD76-47BB-97C0-18E67B5E85A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83600" y="4581360"/>
            <a:ext cx="18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-3240" y="44280"/>
            <a:ext cx="456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ankalar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 1’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0" y="1333440"/>
            <a:ext cx="4568760" cy="2857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572000" cy="2884680"/>
          </a:xfrm>
          <a:prstGeom prst="rect">
            <a:avLst/>
          </a:prstGeom>
          <a:ln w="0">
            <a:noFill/>
          </a:ln>
        </p:spPr>
      </p:pic>
      <p:sp>
        <p:nvSpPr>
          <p:cNvPr id="245" name="Title 1"/>
          <p:cNvSpPr/>
          <p:nvPr/>
        </p:nvSpPr>
        <p:spPr>
          <a:xfrm>
            <a:off x="4575240" y="47520"/>
            <a:ext cx="4568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Karlılık bankalar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ha yüksek değ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4530240" y="4568760"/>
            <a:ext cx="25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İSO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B71B-CE90-498D-967D-881738D6FC0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Düzenlemeler etkili ve maliyet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9880" y="1196640"/>
            <a:ext cx="88628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Gelişmişlik farkı gözetilm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ankaların yapısını, davranışını ve maliyet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şterileri ve ekonomiy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rekli değişiklik uyum sürecini, iş modeller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CA4D-E8A4-4CEA-B1CC-16D6AC21BF2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üresel r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iskler yüksek ve dalgal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808200"/>
            <a:ext cx="454032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Belirsizlik ve riskler yüksek, risk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ştahı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üyüme ve ticaret hacmi artışı yava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lişmiş ülkelerde farklılaşan para politik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GOÜ’den s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rmaye 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çıkış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 para ve sermaye piyasaları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Risk primleri yükse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62640" y="692280"/>
            <a:ext cx="4541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3440" y="765000"/>
            <a:ext cx="4321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7AB-DDC7-4F7C-AE56-0C89A3A8E31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-74520" y="0"/>
            <a:ext cx="9218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09720"/>
            <a:ext cx="915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DDK’nın görüşü alınmalı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koordinasyon sağ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Olağanüstü durumlar tanım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sit, uygulanabilir, tutarl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l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Sektörü büyütmeli, rekabet gücünü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ı güçlendi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Teknolojik ürün ve hizmetleri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5DA5-21E4-4A0B-895A-E44AC1F1666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480" y="879480"/>
            <a:ext cx="88963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Alacakların tahsilatını hızlandır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Kredi verme iştahını düşür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Risk yönetiminde rehber olmalı, riskin alınmasına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müdahale et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Risk primini düşü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Güve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sağla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Piyasaları büyütmeli ve derinleştiril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8F0D-C875-4261-959A-6C9FA74A548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Finansal istikrar ve büyü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şletme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irey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kredi ve bankacılık hiz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taleplerinin karşılanm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finansal istikrarı tanım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Mevcut kredilerin çev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alacakların zamanında tahsil edilmesin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eni kredilerin v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ekonomide büyümenin sürekliliğine bağ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B59F-09F2-4483-8F27-C473B7F1BA4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7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form;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kabet, büyüme ve refah artışı demek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am makro d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Hızlanan refor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ıklı bankac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Öngörülebilir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üyüme potansiy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efah artı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4106-DC94-4862-956F-D399E58552A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Ülkemizin geleceğine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inanıyor ve güveniyo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840" y="1268280"/>
            <a:ext cx="4556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yimser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eklentilerimiz olum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htiyatlıy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Gerçekçi bir yaklaşım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iskleri 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fırsat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irlik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değerlendiriyor, yönetiyo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A067-63CD-43FC-9904-A3BE71336AB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nin geleceğine yatırıma dev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640" y="942480"/>
            <a:ext cx="8937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İstikrardan ve büyümeden güç alan bankacılı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zorluklara ve giderek sıkılaşan kurallara rağ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htiyatlı bir yaklaşım içi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redileri reel olarak arttır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ürkiye’nin geleceğine yatırım  yapıyor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5169-9BE8-477A-AFB4-0290D5D119C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Şükran ve teşekk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39760" y="836640"/>
            <a:ext cx="4327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ankacılık sektörü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üyüme potansiyel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sağlıklı bilanço yapısı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ürün ve hizmet kalit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yönetim tecrüb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yi eğitimli insan kaynağı 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stikrara ve büyümeye katkı ver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67320" y="836640"/>
            <a:ext cx="4576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Emeği geçen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kişi ve kuruluşlar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banka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sermayedar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yöneticilerimiz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çalışanlarımız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şükranlarımızı sunar</a:t>
            </a:r>
            <a:r>
              <a:rPr b="1" lang="en-US" sz="2700" spc="-1" strike="noStrike">
                <a:solidFill>
                  <a:srgbClr val="0070c0"/>
                </a:solidFill>
                <a:latin typeface="Arial"/>
              </a:rPr>
              <a:t>ız.</a:t>
            </a: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36E4-830D-49E3-9C4F-36EEEB3BEB2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971640" y="2421000"/>
            <a:ext cx="720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2060"/>
                </a:solidFill>
                <a:latin typeface="Arial"/>
              </a:rPr>
              <a:t>Teşekkür eder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EC8B-E9FF-494E-A248-26635EF09D0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de büyüme hızland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000" y="942480"/>
            <a:ext cx="4572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syh yüzde 4 büyü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asarruf oranı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Bütçe disiplini s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amunun borç stoku/gsyh oranı düşt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Net sermaye girişi ol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Finansal sektör işlevini sürd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99000" y="942840"/>
            <a:ext cx="38512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Gıda fiyatları ve zayıf TL nedeniyle e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flasyon yüksek ka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TL reel olarak değer kaybe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Likidite sıkılaştırı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Faiz oranları 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CAA8-E415-4B36-BAD6-F0AC509D196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büyümesi yavaşlı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60" y="4437000"/>
            <a:ext cx="176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Uİ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440" y="1268280"/>
            <a:ext cx="4570560" cy="28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AFD9-1BA0-4118-836B-88A95DED2B0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Ölçek küç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697400" y="4437000"/>
            <a:ext cx="18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lbanks.com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738440" y="1238400"/>
            <a:ext cx="5713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E541-5573-4459-BB43-F1BCEDFCD0A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-2700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yapısında değiş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68600" y="1268280"/>
            <a:ext cx="5783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7715-AAB6-476F-A79B-82C5B721351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Kredilerin sey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93040" y="493884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0" y="1303200"/>
            <a:ext cx="4572000" cy="284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0520" y="1270080"/>
            <a:ext cx="455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A4B4-9110-4B4E-A2DD-3EDCC2643AE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5840" y="43959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503600" y="0"/>
            <a:ext cx="45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Kurumsal kred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4400"/>
            <a:ext cx="4586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ireysel kredi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p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yı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 öngörülen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Sirin Mutluturk</dc:creator>
  <dc:description/>
  <dc:language>en-US</dc:language>
  <cp:lastModifiedBy>Ekrem Keskin</cp:lastModifiedBy>
  <cp:lastPrinted>2016-05-24T10:29:15Z</cp:lastPrinted>
  <dcterms:modified xsi:type="dcterms:W3CDTF">2016-05-25T06:48:50Z</dcterms:modified>
  <cp:revision>638</cp:revision>
  <dc:subject/>
  <dc:title>Slide 1</dc:title>
</cp:coreProperties>
</file>